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813-F4B5-4A15-B315-F150228E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E6B-8832-4A57-9CF1-F8CB1BCB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620-787D-4A70-9B73-5AA2A395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B632-74FB-4CE6-B813-5F9C6A3E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338E1-FB98-4085-83D0-94281282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2A846-851A-4C65-A391-6C718100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03F04-7CAD-4C2A-89B0-C5C4A003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117A3-E7B4-4EA3-95AE-687FA58B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67EE1-2D87-473F-A849-A0017752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D57B5-DCE7-4B3D-958A-D050B67A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72500-FBFE-41DB-8684-98868F44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B9A-52CB-4913-87B6-11B7FB7B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0AEDF-E99A-4F6D-8A35-E7317074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494B1-7E91-4D42-AF32-EE8EC0A0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C7A85-7913-4765-B9D3-511BA22A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8AD9E-37D9-462E-9CA5-2600634D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DDCBF-D0E1-4E24-80F8-E9ABCBAD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B601-4BD0-47FC-B81B-252AD0F2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C2E-355B-4321-BAB5-639DA85F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167-8226-4F08-B1F1-580ACB0F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2661-CD9D-46C5-9797-6E1C756B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A480-F9D0-4159-93C9-76994D28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43D-8A75-47DA-883C-343C12D9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E742-8003-4AFB-8617-68C71014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5B31-1504-41D8-BDD3-4C777F68F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4F43-C4D7-4752-8CD5-97D9665FE6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ssion 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yths and Deni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samples TND"/>
          <p:cNvPicPr/>
          <p:nvPr/>
        </p:nvPicPr>
        <p:blipFill>
          <a:blip r:embed="rId1">
            <a:lum bright="6000"/>
          </a:blip>
          <a:srcRect l="52001" t="1546" r="2941" b="8564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itle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yth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proved belief or invented st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3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YTH 1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RUG USE PROVIDES EMOTIONAL PROTECTION FROM THE OUTSIDE WORL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3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YTH 2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RUGS HELPS PEOPLE TO ESTABLISH FRIENDSHI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3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YTH 3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OPLE GET USED TO A DRU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3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YTH 4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RUG USE SHOWS INDEPEND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3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nial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gnoring consequences that are obvious to oth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3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90360" y="2057400"/>
            <a:ext cx="7391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ur Kinds of DENIAL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ame others, deny injury, deny effects on others, reinterpretation (change the stor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3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interpretatio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king negative consequences seem positi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3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3:21:45Z</dcterms:created>
  <dc:creator>Alica</dc:creator>
  <dc:description/>
  <dc:language>en-US</dc:language>
  <cp:lastModifiedBy>Leah Meza</cp:lastModifiedBy>
  <dcterms:modified xsi:type="dcterms:W3CDTF">2009-11-24T18:36:27Z</dcterms:modified>
  <cp:revision>18</cp:revision>
  <dc:subject/>
  <dc:title>Project TND  (Project Towards No Drug Abuse)</dc:title>
</cp:coreProperties>
</file>